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544-E2E8-4A50-9912-C74DCCDE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DEC5-2B63-458F-8CC8-990D39D3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33B-0EEB-4DC0-9710-DA750D82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AAD-8450-430A-9C16-15A94F3A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DFB-1A61-4EFE-8824-281B2468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C60-189A-469F-9D94-351657E3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611-295C-4640-837C-53CA5C4C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67B-B76B-47C8-8BF9-A5AD9443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847D-4060-4A97-8ABC-CAD87954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DD1-6BD4-4643-8938-28DCB287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11F6-C547-4799-BC4F-F34363A3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9CC-8985-4C73-AC13-C13D8C3A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8583-ACEC-4809-A7EF-69FCE31B3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333360"/>
            <a:ext cx="76197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5:43:48Z</dcterms:created>
  <dc:creator>Becky Krichevsky</dc:creator>
  <dc:description/>
  <dc:language>en-US</dc:language>
  <cp:lastModifiedBy>Becky Krichevsky</cp:lastModifiedBy>
  <dcterms:modified xsi:type="dcterms:W3CDTF">2009-04-07T05:43:59Z</dcterms:modified>
  <cp:revision>1</cp:revision>
  <dc:subject/>
  <dc:title>Slide 1</dc:title>
</cp:coreProperties>
</file>